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CE00-FFC7-4D52-B8AE-A81963EDAA58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0561-9AC4-4A7E-9F61-84DDD1B8520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D46-9014-4CA7-A69F-52E7E509C7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A54F-9097-4DAB-AC91-63CBFDCAEEF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BC8-C4E0-4331-8F21-D8C710B2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5CF-9D6F-4DDF-A684-1F8C77CD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595-A609-48F0-9C40-F516DDA2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079-89A5-4ACC-895B-4F574043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D213-7C90-4DDF-833C-0B1B3729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D98B-4AF2-4370-9729-A7E7C7EB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A101-6EAD-4DF7-83BA-DD78ECE1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907B-8992-431B-A5E7-FF82E0B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89E8-90A2-4DBB-A413-8A6CA278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16EF-7FB0-4C85-8BFC-5E54735D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13A4-DBC5-45E6-8048-00D9DC5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5B6-6722-4BDF-B33B-168F4793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A61A-03E2-4C36-9558-614C1E5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A7BD-A913-4ABF-B7B4-2EDCAB7E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4B9A-D57F-40AB-B2DB-5839B4CD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EBCB-39FD-4C0D-96F4-FDA14B2F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D019-538B-42E5-8924-405E6614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339-4245-48C1-A3A8-A60687DC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888-010B-467D-AA0E-BB40276E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9F4-B070-4729-A3EB-3118348A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0A8-12F4-48A9-A6D5-3978518F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6E5-78D0-4972-B02F-F1BFD84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C99-CE0E-4841-869B-5036C08A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64D-95A9-4418-AB51-EEB92A7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520D-A03F-49A4-ABBB-4992A39C142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5E92-D523-4F76-A639-CD2CD77E3FE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QCA. BIOLÓGICA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Rectángulo"/>
          <p:cNvSpPr/>
          <p:nvPr/>
        </p:nvSpPr>
        <p:spPr>
          <a:xfrm>
            <a:off x="4287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 Rectángulo"/>
          <p:cNvSpPr/>
          <p:nvPr/>
        </p:nvSpPr>
        <p:spPr>
          <a:xfrm>
            <a:off x="500040" y="1214280"/>
            <a:ext cx="80726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METABOLISMO DEL GLUCÓGENO.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 Glucogenolisis y Glucogenogenesis. Regulación alostérica, por modificación covalente. Control hormonal </a:t>
            </a:r>
            <a:r>
              <a:rPr b="1" lang="es-AR" sz="2800" spc="-1" strike="noStrike">
                <a:solidFill>
                  <a:srgbClr val="1104bc"/>
                </a:solidFill>
                <a:latin typeface="Arial"/>
              </a:rPr>
              <a:t>en distintos estados nutri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GLUCONEOGÉNESI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1 CuadroTexto"/>
          <p:cNvSpPr/>
          <p:nvPr/>
        </p:nvSpPr>
        <p:spPr>
          <a:xfrm>
            <a:off x="2298600" y="571680"/>
            <a:ext cx="42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28760" y="0"/>
            <a:ext cx="8229600" cy="57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CuadroTexto"/>
          <p:cNvSpPr/>
          <p:nvPr/>
        </p:nvSpPr>
        <p:spPr>
          <a:xfrm>
            <a:off x="0" y="1000080"/>
            <a:ext cx="89298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) Fosforilación de Glucosa en el C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) Formación de Glucosa-1P, a partir de Glucosa-6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) “Activación” de Glucosa-1P,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UDP-glucosa piro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ó Glucosa-1P-uridiltransfer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) Elongación de la cadena de Glucógen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ición de Glucosa en una molécula de Glucógeno preexistente o a la proteína Glucogen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) Formación de ram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905040"/>
            <a:ext cx="89265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nzimas intervie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28800" y="1582560"/>
            <a:ext cx="7162560" cy="35420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(Glu-1P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uridil transfer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s-AR" sz="28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Rectángulo"/>
          <p:cNvSpPr/>
          <p:nvPr/>
        </p:nvSpPr>
        <p:spPr>
          <a:xfrm>
            <a:off x="1000080" y="569124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1800" spc="-1" strike="noStrike">
                <a:solidFill>
                  <a:srgbClr val="1104bc"/>
                </a:solidFill>
                <a:latin typeface="Arial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85840" y="2543040"/>
            <a:ext cx="845820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2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Glucosa-1P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 </a:t>
            </a:r>
            <a:r>
              <a:rPr b="1" i="1" lang="es-AR" sz="2000" spc="-1" strike="noStrike">
                <a:solidFill>
                  <a:srgbClr val="1104bc"/>
                </a:solidFill>
                <a:latin typeface="Arial"/>
              </a:rPr>
              <a:t>(Mg2+, Glu 1,6 b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6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28960" y="364320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85840" y="4286160"/>
            <a:ext cx="8529480" cy="22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3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“Activación” de Glucosa-1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Glucosa-1P-uridil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T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-Glucosa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Pi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953735"/>
                </a:solidFill>
                <a:latin typeface="Arial"/>
              </a:rPr>
              <a:t>piro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3786120" y="5286240"/>
            <a:ext cx="1643040" cy="228600"/>
          </a:xfrm>
          <a:prstGeom prst="leftRightArrow">
            <a:avLst>
              <a:gd name="adj1" fmla="val 50000"/>
              <a:gd name="adj2" fmla="val 17332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9 CuadroTexto"/>
          <p:cNvSpPr/>
          <p:nvPr/>
        </p:nvSpPr>
        <p:spPr>
          <a:xfrm>
            <a:off x="214200" y="714240"/>
            <a:ext cx="842976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Fosforilación de Glucosa en el C-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Hexoquinasas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s-ES_tradnl" sz="1600" spc="-1" strike="noStrike">
                <a:solidFill>
                  <a:srgbClr val="ff0000"/>
                </a:solidFill>
                <a:latin typeface="Comic Sans MS"/>
              </a:rPr>
              <a:t>Repasar Vía Glicolítica……</a:t>
            </a: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 + ATP                          Glucosa-6-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0 Flecha derecha"/>
          <p:cNvSpPr/>
          <p:nvPr/>
        </p:nvSpPr>
        <p:spPr>
          <a:xfrm>
            <a:off x="2428920" y="5786280"/>
            <a:ext cx="977760" cy="2145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3143160" y="1785960"/>
            <a:ext cx="1981440" cy="228600"/>
          </a:xfrm>
          <a:prstGeom prst="leftRightArrow">
            <a:avLst>
              <a:gd name="adj1" fmla="val 50000"/>
              <a:gd name="adj2" fmla="val 172551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28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Calibri"/>
              </a:rPr>
              <a:t>Etapa 3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214280"/>
            <a:ext cx="4114800" cy="13136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IS LELO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906-1987)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rgentino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714920" y="150012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ó el papel de la UDP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181" name="Picture 6" descr="udpglu"/>
            <p:cNvPicPr/>
            <p:nvPr/>
          </p:nvPicPr>
          <p:blipFill>
            <a:blip r:embed="rId1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2590920" y="373536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188" name="Picture 13" descr="udpglu"/>
            <p:cNvPicPr/>
            <p:nvPr/>
          </p:nvPicPr>
          <p:blipFill>
            <a:blip r:embed="rId2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190" name="Picture 15" descr="udpglu"/>
              <p:cNvPicPr/>
              <p:nvPr/>
            </p:nvPicPr>
            <p:blipFill>
              <a:blip r:embed="rId3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Glu -1P-uridiltransfer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Picture 2" descr=""/>
          <p:cNvPicPr/>
          <p:nvPr/>
        </p:nvPicPr>
        <p:blipFill>
          <a:blip r:embed="rId4"/>
          <a:stretch/>
        </p:blipFill>
        <p:spPr>
          <a:xfrm>
            <a:off x="7412040" y="785880"/>
            <a:ext cx="173196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3" descr="Resultado de imagen para bandera argentina dibujos infantiles"/>
          <p:cNvPicPr/>
          <p:nvPr/>
        </p:nvPicPr>
        <p:blipFill>
          <a:blip r:embed="rId5"/>
          <a:stretch/>
        </p:blipFill>
        <p:spPr>
          <a:xfrm>
            <a:off x="7929720" y="0"/>
            <a:ext cx="1143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357120" y="1071720"/>
            <a:ext cx="8458200" cy="498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4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ongación de la caden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-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) 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(pre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ó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1800" spc="-1" strike="noStrike">
                <a:solidFill>
                  <a:srgbClr val="0070c0"/>
                </a:solidFill>
                <a:latin typeface="Arial"/>
              </a:rPr>
              <a:t>“proteína Glucogeni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+ 1)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 rot="20625000">
            <a:off x="4539240" y="442260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9 Flecha abajo"/>
          <p:cNvSpPr/>
          <p:nvPr/>
        </p:nvSpPr>
        <p:spPr>
          <a:xfrm flipH="1">
            <a:off x="4822920" y="3273480"/>
            <a:ext cx="239760" cy="1143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 Rectángulo"/>
          <p:cNvSpPr/>
          <p:nvPr/>
        </p:nvSpPr>
        <p:spPr>
          <a:xfrm>
            <a:off x="1368360" y="35751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1509840" y="3500280"/>
            <a:ext cx="175248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932360" y="3500280"/>
            <a:ext cx="3743280" cy="3373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853240" y="4110120"/>
            <a:ext cx="15984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Arial"/>
                <a:ea typeface="Arial"/>
              </a:rPr>
              <a:t>Etapa 4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LA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4 CuadroTexto"/>
          <p:cNvSpPr/>
          <p:nvPr/>
        </p:nvSpPr>
        <p:spPr>
          <a:xfrm>
            <a:off x="3297600" y="63579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Glucógeno 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85840" y="1857240"/>
            <a:ext cx="8458200" cy="23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e46c0a"/>
                </a:solidFill>
                <a:latin typeface="Arial"/>
              </a:rPr>
              <a:t>Enzima ramificante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Amil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4       1,6) glucos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85840" y="4429080"/>
            <a:ext cx="8534160" cy="947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2352600" y="30002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966240" y="857160"/>
            <a:ext cx="6582960" cy="94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Etapa 5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ram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227160" y="2260440"/>
            <a:ext cx="8665920" cy="3168720"/>
            <a:chOff x="227160" y="2260440"/>
            <a:chExt cx="8665920" cy="3168720"/>
          </a:xfrm>
        </p:grpSpPr>
        <p:grpSp>
          <p:nvGrpSpPr>
            <p:cNvPr id="226" name="Group 2"/>
            <p:cNvGrpSpPr/>
            <p:nvPr/>
          </p:nvGrpSpPr>
          <p:grpSpPr>
            <a:xfrm>
              <a:off x="227160" y="2260440"/>
              <a:ext cx="8665920" cy="3168720"/>
              <a:chOff x="227160" y="2260440"/>
              <a:chExt cx="8665920" cy="3168720"/>
            </a:xfrm>
          </p:grpSpPr>
          <p:grpSp>
            <p:nvGrpSpPr>
              <p:cNvPr id="227" name="Group 3"/>
              <p:cNvGrpSpPr/>
              <p:nvPr/>
            </p:nvGrpSpPr>
            <p:grpSpPr>
              <a:xfrm>
                <a:off x="227160" y="2260440"/>
                <a:ext cx="8665920" cy="3168720"/>
                <a:chOff x="227160" y="2260440"/>
                <a:chExt cx="8665920" cy="3168720"/>
              </a:xfrm>
            </p:grpSpPr>
            <p:pic>
              <p:nvPicPr>
                <p:cNvPr id="228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33676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Rectangle 5"/>
                <p:cNvSpPr/>
                <p:nvPr/>
              </p:nvSpPr>
              <p:spPr>
                <a:xfrm>
                  <a:off x="4788000" y="226044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Text Box 6"/>
              <p:cNvSpPr/>
              <p:nvPr/>
            </p:nvSpPr>
            <p:spPr>
              <a:xfrm>
                <a:off x="6257520" y="3448080"/>
                <a:ext cx="226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Enzima ramifica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7"/>
              <p:cNvSpPr/>
              <p:nvPr/>
            </p:nvSpPr>
            <p:spPr>
              <a:xfrm>
                <a:off x="3410280" y="492444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8"/>
              <p:cNvSpPr/>
              <p:nvPr/>
            </p:nvSpPr>
            <p:spPr>
              <a:xfrm>
                <a:off x="7882920" y="406080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Line 12"/>
            <p:cNvSpPr/>
            <p:nvPr/>
          </p:nvSpPr>
          <p:spPr>
            <a:xfrm flipH="1" flipV="1">
              <a:off x="539280" y="348408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3"/>
          <p:cNvSpPr/>
          <p:nvPr/>
        </p:nvSpPr>
        <p:spPr>
          <a:xfrm>
            <a:off x="214200" y="0"/>
            <a:ext cx="8572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el C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10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>
              <a:gd name="textAreaLeft" fmla="*/ 0 w 2809800"/>
              <a:gd name="textAreaRight" fmla="*/ 2810160 w 280980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>
            <a:off x="6215040" y="342900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6372360" y="3429000"/>
            <a:ext cx="2857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4 Rectángulo"/>
          <p:cNvSpPr/>
          <p:nvPr/>
        </p:nvSpPr>
        <p:spPr>
          <a:xfrm>
            <a:off x="9408960" y="4000680"/>
            <a:ext cx="15004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15 Elipse"/>
          <p:cNvSpPr/>
          <p:nvPr/>
        </p:nvSpPr>
        <p:spPr>
          <a:xfrm>
            <a:off x="0" y="2571840"/>
            <a:ext cx="5143680" cy="1071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6 Elipse"/>
          <p:cNvSpPr/>
          <p:nvPr/>
        </p:nvSpPr>
        <p:spPr>
          <a:xfrm>
            <a:off x="2643120" y="3857760"/>
            <a:ext cx="5143680" cy="9284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-1440" y="1874880"/>
            <a:ext cx="9617040" cy="57308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214200" y="0"/>
            <a:ext cx="8572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16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16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16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16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16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1600" spc="-1" strike="noStrike">
                <a:solidFill>
                  <a:srgbClr val="0033cc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el C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 Elipse"/>
          <p:cNvSpPr/>
          <p:nvPr/>
        </p:nvSpPr>
        <p:spPr>
          <a:xfrm>
            <a:off x="108000" y="1844640"/>
            <a:ext cx="4392720" cy="10717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 Elipse"/>
          <p:cNvSpPr/>
          <p:nvPr/>
        </p:nvSpPr>
        <p:spPr>
          <a:xfrm rot="843000">
            <a:off x="441360" y="4841640"/>
            <a:ext cx="5281560" cy="13507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531880" y="3130560"/>
            <a:ext cx="2262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Enzima 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2859120" cy="282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3"/>
          <a:stretch/>
        </p:blipFill>
        <p:spPr>
          <a:xfrm>
            <a:off x="5054760" y="3349800"/>
            <a:ext cx="811080" cy="450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4"/>
          <a:stretch/>
        </p:blipFill>
        <p:spPr>
          <a:xfrm>
            <a:off x="4976640" y="6165720"/>
            <a:ext cx="811440" cy="451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5"/>
          <a:stretch/>
        </p:blipFill>
        <p:spPr>
          <a:xfrm>
            <a:off x="5580000" y="5702400"/>
            <a:ext cx="1079640" cy="689040"/>
          </a:xfrm>
          <a:prstGeom prst="rect">
            <a:avLst/>
          </a:prstGeom>
          <a:ln w="0">
            <a:noFill/>
          </a:ln>
        </p:spPr>
      </p:pic>
      <p:sp>
        <p:nvSpPr>
          <p:cNvPr id="250" name="1 CuadroTexto"/>
          <p:cNvSpPr/>
          <p:nvPr/>
        </p:nvSpPr>
        <p:spPr>
          <a:xfrm>
            <a:off x="45360" y="4149720"/>
            <a:ext cx="952596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LUCOGENO</a:t>
            </a:r>
            <a:r>
              <a:rPr b="1" lang="es-ES" sz="2900" spc="-1" strike="noStrike">
                <a:solidFill>
                  <a:srgbClr val="1104bc"/>
                </a:solidFill>
                <a:latin typeface="Calibri"/>
              </a:rPr>
              <a:t>GENESI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asto Energético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08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ra formar Glucosa-6-P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se gasta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ra la 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se gasta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UT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DP  +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TP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  UTP  +  A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n la hidrólisis PP  a  2 Pi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rompe una un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 alta ener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428472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4861080" y="2928960"/>
            <a:ext cx="1223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4111560" y="4248000"/>
            <a:ext cx="820800" cy="1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15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3200"/>
            </a:br>
            <a:r>
              <a:rPr b="1" lang="es-ES_tradnl" sz="22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Degradación anaeróbica de glucosa (fructosa, galactosa)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ógeno  a partir de gluco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357120" y="1471680"/>
            <a:ext cx="8352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a Glucogenogénesis está regulada a nivel de la enzima </a:t>
            </a:r>
            <a:r>
              <a:rPr b="1" i="1" lang="es-ES" sz="28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A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Glu-6-P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  <a:ea typeface="Arial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Glucogeno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B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que es DEPENDIENTE DE CONTROL HORMONAL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íg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múscu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36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REGULACIÓN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Hormona dependi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ógen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3600" spc="-1" strike="noStrike">
                <a:solidFill>
                  <a:srgbClr val="ff0000"/>
                </a:solidFill>
                <a:latin typeface="Arial"/>
              </a:rPr>
              <a:t>GSintasa</a:t>
            </a:r>
            <a:r>
              <a:rPr b="0" lang="es-CO" sz="36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984807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62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9cd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O" sz="3600" spc="-1" strike="noStrike">
                  <a:solidFill>
                    <a:srgbClr val="ff0000"/>
                  </a:solidFill>
                  <a:latin typeface="Arial"/>
                </a:rPr>
                <a:t>GSintasa</a:t>
              </a:r>
              <a:r>
                <a:rPr b="0" lang="es-CO" sz="3600" spc="-1" strike="noStrike">
                  <a:solidFill>
                    <a:srgbClr val="ff0000"/>
                  </a:solidFill>
                  <a:latin typeface="Arial"/>
                </a:rPr>
                <a:t>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984807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984807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67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rc 12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360 h 432000"/>
                <a:gd name="textAreaBottom" fmla="*/ 432720 h 432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72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278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281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2000160" y="2000160"/>
            <a:ext cx="201636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gulación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3857760" y="1789200"/>
            <a:ext cx="4946400" cy="171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(-) </a:t>
            </a: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Adrenalina ó </a:t>
            </a: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7920" y="43920"/>
            <a:ext cx="868680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GLUCÓGENO-GENESIS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gulación Hormonal y Alostérica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214720" y="4929120"/>
            <a:ext cx="3000240" cy="116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4143240" y="464328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(-)Ca</a:t>
            </a:r>
            <a:r>
              <a:rPr b="1" lang="es-MX" sz="24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500120" y="364320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8 Flecha abajo"/>
          <p:cNvSpPr/>
          <p:nvPr/>
        </p:nvSpPr>
        <p:spPr>
          <a:xfrm>
            <a:off x="2714760" y="29289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0 Flecha arriba"/>
          <p:cNvSpPr/>
          <p:nvPr/>
        </p:nvSpPr>
        <p:spPr>
          <a:xfrm>
            <a:off x="2714760" y="4214880"/>
            <a:ext cx="214200" cy="71424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 Rectángulo"/>
          <p:cNvSpPr/>
          <p:nvPr/>
        </p:nvSpPr>
        <p:spPr>
          <a:xfrm>
            <a:off x="428760" y="134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Glucogenogénesis está regulada a nivel de la enzima Glucógen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785960" y="214200"/>
            <a:ext cx="5381640" cy="6221520"/>
          </a:xfrm>
          <a:prstGeom prst="rect">
            <a:avLst/>
          </a:prstGeom>
          <a:ln w="0">
            <a:noFill/>
          </a:ln>
        </p:spPr>
      </p:pic>
      <p:sp>
        <p:nvSpPr>
          <p:cNvPr id="293" name="3 CuadroTexto"/>
          <p:cNvSpPr/>
          <p:nvPr/>
        </p:nvSpPr>
        <p:spPr>
          <a:xfrm>
            <a:off x="4719600" y="642960"/>
            <a:ext cx="2997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4 CuadroTexto"/>
          <p:cNvSpPr/>
          <p:nvPr/>
        </p:nvSpPr>
        <p:spPr>
          <a:xfrm>
            <a:off x="4857840" y="32637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 CuadroTexto"/>
          <p:cNvSpPr/>
          <p:nvPr/>
        </p:nvSpPr>
        <p:spPr>
          <a:xfrm>
            <a:off x="6226200" y="0"/>
            <a:ext cx="2437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Sínte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 CuadroTexto"/>
          <p:cNvSpPr/>
          <p:nvPr/>
        </p:nvSpPr>
        <p:spPr>
          <a:xfrm>
            <a:off x="3151080" y="1857240"/>
            <a:ext cx="173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A-6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 CuadroTexto"/>
          <p:cNvSpPr/>
          <p:nvPr/>
        </p:nvSpPr>
        <p:spPr>
          <a:xfrm>
            <a:off x="215244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8 Rectángulo redondeado"/>
          <p:cNvSpPr/>
          <p:nvPr/>
        </p:nvSpPr>
        <p:spPr>
          <a:xfrm>
            <a:off x="3714840" y="5929200"/>
            <a:ext cx="1928880" cy="571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4 CuadroTexto"/>
          <p:cNvSpPr/>
          <p:nvPr/>
        </p:nvSpPr>
        <p:spPr>
          <a:xfrm>
            <a:off x="5715000" y="42861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10 Rectángulo redondeado"/>
          <p:cNvSpPr/>
          <p:nvPr/>
        </p:nvSpPr>
        <p:spPr>
          <a:xfrm>
            <a:off x="2357280" y="928800"/>
            <a:ext cx="15004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1 Rectángulo redondeado"/>
          <p:cNvSpPr/>
          <p:nvPr/>
        </p:nvSpPr>
        <p:spPr>
          <a:xfrm>
            <a:off x="2143080" y="2357280"/>
            <a:ext cx="235764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2 Rectángulo redondeado"/>
          <p:cNvSpPr/>
          <p:nvPr/>
        </p:nvSpPr>
        <p:spPr>
          <a:xfrm>
            <a:off x="2857680" y="3500280"/>
            <a:ext cx="164304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3 Rectángulo redondeado"/>
          <p:cNvSpPr/>
          <p:nvPr/>
        </p:nvSpPr>
        <p:spPr>
          <a:xfrm>
            <a:off x="2857680" y="4714920"/>
            <a:ext cx="1500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Rectángulo redondeado"/>
          <p:cNvSpPr/>
          <p:nvPr/>
        </p:nvSpPr>
        <p:spPr>
          <a:xfrm>
            <a:off x="3143160" y="1714680"/>
            <a:ext cx="1928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5 Rectángulo redondeado"/>
          <p:cNvSpPr/>
          <p:nvPr/>
        </p:nvSpPr>
        <p:spPr>
          <a:xfrm>
            <a:off x="3214800" y="2857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6 Rectángulo redondeado"/>
          <p:cNvSpPr/>
          <p:nvPr/>
        </p:nvSpPr>
        <p:spPr>
          <a:xfrm>
            <a:off x="2143080" y="4214880"/>
            <a:ext cx="12859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Rectángulo redondeado"/>
          <p:cNvSpPr/>
          <p:nvPr/>
        </p:nvSpPr>
        <p:spPr>
          <a:xfrm>
            <a:off x="3429000" y="5286240"/>
            <a:ext cx="1500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Elipse"/>
          <p:cNvSpPr/>
          <p:nvPr/>
        </p:nvSpPr>
        <p:spPr>
          <a:xfrm>
            <a:off x="2071800" y="300024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GRADACION DEL GLUCOGENO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se ac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 ACTIVA CUANDO LA CE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NECESITA ENERGIA Y NO DISPONE DE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Calibri"/>
              </a:rPr>
              <a:t>(entre comidas, actividad muscular inten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TIENE LUGAR EN EL CITOSOL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ES UN PROCESO MUY ACTIVO EN HIGA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3 CuadroTexto"/>
          <p:cNvSpPr/>
          <p:nvPr/>
        </p:nvSpPr>
        <p:spPr>
          <a:xfrm>
            <a:off x="251280" y="928800"/>
            <a:ext cx="797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de unidades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1-fosfat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nsferencia de unidades del trisacárido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 extremo de la rama vecina: acción de </a:t>
            </a:r>
            <a:r>
              <a:rPr b="1" i="1" lang="es-AR" sz="2400" spc="-1" strike="noStrike">
                <a:solidFill>
                  <a:srgbClr val="069432"/>
                </a:solidFill>
                <a:latin typeface="Arial"/>
              </a:rPr>
              <a:t>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Hidrólisis de las uniones alfa 1,6 glicosíd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alfa- 1,6 glicosid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(Enz desramifican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Se produce glucosa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Forma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partir de l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glucosa-1-fosfato: por  </a:t>
            </a:r>
            <a:r>
              <a:rPr b="1" i="1" lang="es-AR" sz="2400" spc="-1" strike="noStrike">
                <a:solidFill>
                  <a:srgbClr val="f133d6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a partir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ígado por acción d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1104bc"/>
                </a:solidFill>
                <a:latin typeface="Arial"/>
              </a:rPr>
              <a:t>glucosa-6-fosfatasa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-357120"/>
            <a:ext cx="7572240" cy="1285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5 CuadroTexto"/>
          <p:cNvSpPr/>
          <p:nvPr/>
        </p:nvSpPr>
        <p:spPr>
          <a:xfrm>
            <a:off x="2296080" y="5716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3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755640" y="3357720"/>
            <a:ext cx="803124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es-ES_tradnl" sz="2800" spc="-1" strike="noStrike">
                <a:solidFill>
                  <a:srgbClr val="00b0f0"/>
                </a:solidFill>
                <a:latin typeface="Calibri"/>
              </a:rPr>
              <a:t>(1,6) GLUCOSIDASA (Enzima  Desramific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133d6"/>
                </a:solidFill>
                <a:latin typeface="Calibri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466560" y="4214880"/>
            <a:ext cx="8606160" cy="15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(1,6)-GLUCOSIDASA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              GLUCOGENOn-1  +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2786040" y="25002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852640" y="50720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 rot="954600">
            <a:off x="3162960" y="552924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97040" y="6143760"/>
            <a:ext cx="770400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SE ELIMINA UN PUNTO DE RAMIFIC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429400" cy="5214960"/>
          </a:xfrm>
          <a:prstGeom prst="rect">
            <a:avLst/>
          </a:prstGeom>
          <a:ln w="0">
            <a:noFill/>
          </a:ln>
        </p:spPr>
      </p:pic>
      <p:sp>
        <p:nvSpPr>
          <p:cNvPr id="331" name="Oval 9"/>
          <p:cNvSpPr/>
          <p:nvPr/>
        </p:nvSpPr>
        <p:spPr>
          <a:xfrm>
            <a:off x="2786040" y="2714760"/>
            <a:ext cx="1076400" cy="8571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1714680" y="4857840"/>
            <a:ext cx="857160" cy="7142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4 CuadroTexto"/>
          <p:cNvSpPr/>
          <p:nvPr/>
        </p:nvSpPr>
        <p:spPr>
          <a:xfrm>
            <a:off x="4009680" y="2928960"/>
            <a:ext cx="17503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5 Conector curvado"/>
          <p:cNvCxnSpPr/>
          <p:nvPr/>
        </p:nvCxnSpPr>
        <p:spPr>
          <a:xfrm rot="10800000">
            <a:off x="2428200" y="1928160"/>
            <a:ext cx="929520" cy="714960"/>
          </a:xfrm>
          <a:prstGeom prst="curvedConnector5">
            <a:avLst>
              <a:gd name="adj1" fmla="val 49980"/>
              <a:gd name="adj2" fmla="val 49974"/>
              <a:gd name="adj3" fmla="val 49980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35" name="Rectangle 2"/>
          <p:cNvSpPr/>
          <p:nvPr/>
        </p:nvSpPr>
        <p:spPr>
          <a:xfrm>
            <a:off x="42876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gradación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59400" y="27936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93560" y="228600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Glucóge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07120" y="1679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073480" y="3068640"/>
            <a:ext cx="3384360" cy="657360"/>
            <a:chOff x="5073480" y="3068640"/>
            <a:chExt cx="3384360" cy="657360"/>
          </a:xfrm>
        </p:grpSpPr>
        <p:sp>
          <p:nvSpPr>
            <p:cNvPr id="101" name="Text Box 9"/>
            <p:cNvSpPr/>
            <p:nvPr/>
          </p:nvSpPr>
          <p:spPr>
            <a:xfrm>
              <a:off x="5073480" y="306864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93c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41440" y="3357720"/>
            <a:ext cx="2735280" cy="368280"/>
            <a:chOff x="541440" y="3357720"/>
            <a:chExt cx="2735280" cy="368280"/>
          </a:xfrm>
        </p:grpSpPr>
        <p:sp>
          <p:nvSpPr>
            <p:cNvPr id="108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8"/>
            <p:cNvSpPr/>
            <p:nvPr/>
          </p:nvSpPr>
          <p:spPr>
            <a:xfrm>
              <a:off x="1619280" y="3357720"/>
              <a:ext cx="1657440" cy="214200"/>
            </a:xfrm>
            <a:prstGeom prst="leftArrow">
              <a:avLst>
                <a:gd name="adj1" fmla="val 59343"/>
                <a:gd name="adj2" fmla="val 98406"/>
              </a:avLst>
            </a:prstGeom>
            <a:solidFill>
              <a:srgbClr val="93c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20"/>
          <p:cNvSpPr/>
          <p:nvPr/>
        </p:nvSpPr>
        <p:spPr>
          <a:xfrm>
            <a:off x="3071880" y="1357200"/>
            <a:ext cx="2571840" cy="28638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99440" y="40654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15920" y="228600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Glucóge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1785960" y="3571920"/>
            <a:ext cx="1584360" cy="214200"/>
          </a:xfrm>
          <a:prstGeom prst="rightArrow">
            <a:avLst>
              <a:gd name="adj1" fmla="val 49454"/>
              <a:gd name="adj2" fmla="val 86876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www2.uah.es/tejedor_bio/bioquimica_Farmacia/IMAGENES/GLUCOG-desramifica.gif"/>
          <p:cNvPicPr/>
          <p:nvPr/>
        </p:nvPicPr>
        <p:blipFill>
          <a:blip r:embed="rId1"/>
          <a:stretch/>
        </p:blipFill>
        <p:spPr>
          <a:xfrm>
            <a:off x="928800" y="231840"/>
            <a:ext cx="7286400" cy="6530760"/>
          </a:xfrm>
          <a:prstGeom prst="rect">
            <a:avLst/>
          </a:prstGeom>
          <a:ln w="0">
            <a:noFill/>
          </a:ln>
        </p:spPr>
      </p:pic>
      <p:sp>
        <p:nvSpPr>
          <p:cNvPr id="337" name="2 Elipse"/>
          <p:cNvSpPr/>
          <p:nvPr/>
        </p:nvSpPr>
        <p:spPr>
          <a:xfrm>
            <a:off x="928800" y="214200"/>
            <a:ext cx="2428920" cy="10000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3 Rectángulo redondeado"/>
          <p:cNvSpPr/>
          <p:nvPr/>
        </p:nvSpPr>
        <p:spPr>
          <a:xfrm>
            <a:off x="2500200" y="1428840"/>
            <a:ext cx="13575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4 Elipse"/>
          <p:cNvSpPr/>
          <p:nvPr/>
        </p:nvSpPr>
        <p:spPr>
          <a:xfrm>
            <a:off x="4214880" y="1571760"/>
            <a:ext cx="3357360" cy="785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5 Elipse"/>
          <p:cNvSpPr/>
          <p:nvPr/>
        </p:nvSpPr>
        <p:spPr>
          <a:xfrm>
            <a:off x="3143160" y="2357280"/>
            <a:ext cx="14288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6 Rectángulo redondeado"/>
          <p:cNvSpPr/>
          <p:nvPr/>
        </p:nvSpPr>
        <p:spPr>
          <a:xfrm>
            <a:off x="2500200" y="3357720"/>
            <a:ext cx="142884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7 Elipse"/>
          <p:cNvSpPr/>
          <p:nvPr/>
        </p:nvSpPr>
        <p:spPr>
          <a:xfrm>
            <a:off x="1857240" y="4643280"/>
            <a:ext cx="14288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8 Rectángulo redondeado"/>
          <p:cNvSpPr/>
          <p:nvPr/>
        </p:nvSpPr>
        <p:spPr>
          <a:xfrm>
            <a:off x="1714680" y="5357880"/>
            <a:ext cx="22143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9 Elipse"/>
          <p:cNvSpPr/>
          <p:nvPr/>
        </p:nvSpPr>
        <p:spPr>
          <a:xfrm>
            <a:off x="4357800" y="4214880"/>
            <a:ext cx="1347840" cy="5713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0 Elipse"/>
          <p:cNvSpPr/>
          <p:nvPr/>
        </p:nvSpPr>
        <p:spPr>
          <a:xfrm>
            <a:off x="4214880" y="5643720"/>
            <a:ext cx="785880" cy="5713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-142920" y="50720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 rot="2185200">
            <a:off x="7183440" y="154800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7572240" y="22860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16 Conector recto de flecha"/>
          <p:cNvCxnSpPr/>
          <p:nvPr/>
        </p:nvCxnSpPr>
        <p:spPr>
          <a:xfrm>
            <a:off x="7500600" y="1856880"/>
            <a:ext cx="50076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19 Rectángulo redondeado"/>
          <p:cNvSpPr/>
          <p:nvPr/>
        </p:nvSpPr>
        <p:spPr>
          <a:xfrm rot="2273400">
            <a:off x="7427520" y="1558800"/>
            <a:ext cx="1376280" cy="5000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6429240" y="5786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22 Conector recto de flecha"/>
          <p:cNvCxnSpPr/>
          <p:nvPr/>
        </p:nvCxnSpPr>
        <p:spPr>
          <a:xfrm>
            <a:off x="5071680" y="6000840"/>
            <a:ext cx="14295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Text Box 7"/>
          <p:cNvSpPr/>
          <p:nvPr/>
        </p:nvSpPr>
        <p:spPr>
          <a:xfrm>
            <a:off x="4929120" y="557208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9360" y="30718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928800" y="208080"/>
            <a:ext cx="5381640" cy="6221160"/>
          </a:xfrm>
          <a:prstGeom prst="rect">
            <a:avLst/>
          </a:prstGeom>
          <a:ln w="0">
            <a:noFill/>
          </a:ln>
        </p:spPr>
      </p:pic>
      <p:sp>
        <p:nvSpPr>
          <p:cNvPr id="356" name="5 CuadroTexto"/>
          <p:cNvSpPr/>
          <p:nvPr/>
        </p:nvSpPr>
        <p:spPr>
          <a:xfrm>
            <a:off x="6717240" y="871560"/>
            <a:ext cx="240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y </a:t>
            </a:r>
            <a:r>
              <a:rPr b="1" lang="es-ES_tradnl" sz="24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CuadroTexto"/>
          <p:cNvSpPr/>
          <p:nvPr/>
        </p:nvSpPr>
        <p:spPr>
          <a:xfrm>
            <a:off x="108108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8 Rectángulo redondeado"/>
          <p:cNvSpPr/>
          <p:nvPr/>
        </p:nvSpPr>
        <p:spPr>
          <a:xfrm>
            <a:off x="2786040" y="5857920"/>
            <a:ext cx="1928880" cy="5713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9 Rectángulo redondeado"/>
          <p:cNvSpPr/>
          <p:nvPr/>
        </p:nvSpPr>
        <p:spPr>
          <a:xfrm>
            <a:off x="3000240" y="285840"/>
            <a:ext cx="1571760" cy="50004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0 CuadroTexto"/>
          <p:cNvSpPr/>
          <p:nvPr/>
        </p:nvSpPr>
        <p:spPr>
          <a:xfrm>
            <a:off x="1149480" y="2858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11 CuadroTexto"/>
          <p:cNvSpPr/>
          <p:nvPr/>
        </p:nvSpPr>
        <p:spPr>
          <a:xfrm>
            <a:off x="4797720" y="60721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2 CuadroTexto"/>
          <p:cNvSpPr/>
          <p:nvPr/>
        </p:nvSpPr>
        <p:spPr>
          <a:xfrm>
            <a:off x="1000080" y="0"/>
            <a:ext cx="2857680" cy="6677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4 CuadroTexto"/>
          <p:cNvSpPr/>
          <p:nvPr/>
        </p:nvSpPr>
        <p:spPr>
          <a:xfrm>
            <a:off x="3857760" y="0"/>
            <a:ext cx="2928960" cy="6677640"/>
          </a:xfrm>
          <a:prstGeom prst="rect">
            <a:avLst/>
          </a:prstGeom>
          <a:noFill/>
          <a:ln w="3168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5 CuadroTexto"/>
          <p:cNvSpPr/>
          <p:nvPr/>
        </p:nvSpPr>
        <p:spPr>
          <a:xfrm>
            <a:off x="4936680" y="12859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5 Rectángulo redondeado"/>
          <p:cNvSpPr/>
          <p:nvPr/>
        </p:nvSpPr>
        <p:spPr>
          <a:xfrm>
            <a:off x="4214880" y="1000080"/>
            <a:ext cx="207180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6 Rectángulo redondeado"/>
          <p:cNvSpPr/>
          <p:nvPr/>
        </p:nvSpPr>
        <p:spPr>
          <a:xfrm>
            <a:off x="4000680" y="2357280"/>
            <a:ext cx="207144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7 Rectángulo redondeado"/>
          <p:cNvSpPr/>
          <p:nvPr/>
        </p:nvSpPr>
        <p:spPr>
          <a:xfrm>
            <a:off x="4071960" y="3857760"/>
            <a:ext cx="20718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8 Rectángulo redondeado"/>
          <p:cNvSpPr/>
          <p:nvPr/>
        </p:nvSpPr>
        <p:spPr>
          <a:xfrm>
            <a:off x="4143240" y="4857840"/>
            <a:ext cx="16430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9 Rectángulo redondeado"/>
          <p:cNvSpPr/>
          <p:nvPr/>
        </p:nvSpPr>
        <p:spPr>
          <a:xfrm>
            <a:off x="2357280" y="2857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20 Rectángulo redondeado"/>
          <p:cNvSpPr/>
          <p:nvPr/>
        </p:nvSpPr>
        <p:spPr>
          <a:xfrm>
            <a:off x="2357280" y="1714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357120" y="1471680"/>
            <a:ext cx="8352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a Glucogenolisis está regulada a nivel de la enzima </a:t>
            </a:r>
            <a:r>
              <a:rPr b="1" i="1" lang="es-ES" sz="2800" spc="-1" strike="noStrike">
                <a:solidFill>
                  <a:srgbClr val="ff0000"/>
                </a:solidFill>
                <a:latin typeface="Arial Rounded MT Bold"/>
              </a:rPr>
              <a:t>Glucó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A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(+) AMP ,Ca</a:t>
            </a:r>
            <a:r>
              <a:rPr b="1" lang="es-ES" sz="2200" spc="-1" strike="noStrike" baseline="30000">
                <a:solidFill>
                  <a:srgbClr val="c00000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(múscu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104bc"/>
                </a:solidFill>
                <a:latin typeface="Arial Rounded MT Bold"/>
                <a:ea typeface="Arial"/>
              </a:rPr>
              <a:t>(-) ATP (músculo), Glucosa (hepatoci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B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que es DEPENDIENTE DE CONTROL HORMONAL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3 CuadroTexto" descr=""/>
          <p:cNvPicPr/>
          <p:nvPr/>
        </p:nvPicPr>
        <p:blipFill>
          <a:blip r:embed="rId1"/>
          <a:stretch/>
        </p:blipFill>
        <p:spPr>
          <a:xfrm>
            <a:off x="85680" y="512640"/>
            <a:ext cx="884556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295200" y="18900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dificación de la actividad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diante fosforilación: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b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menos activa) no está fosforilada, mientras que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ctiva) se encuentra FOSFORILADA. Esta regulación está sometida a control hormonal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649440" y="2276640"/>
            <a:ext cx="5851440" cy="4173480"/>
            <a:chOff x="649440" y="2276640"/>
            <a:chExt cx="5851440" cy="4173480"/>
          </a:xfrm>
        </p:grpSpPr>
        <p:grpSp>
          <p:nvGrpSpPr>
            <p:cNvPr id="376" name="Group 4"/>
            <p:cNvGrpSpPr/>
            <p:nvPr/>
          </p:nvGrpSpPr>
          <p:grpSpPr>
            <a:xfrm>
              <a:off x="2497680" y="2276640"/>
              <a:ext cx="4003200" cy="4173480"/>
              <a:chOff x="2497680" y="2276640"/>
              <a:chExt cx="4003200" cy="4173480"/>
            </a:xfrm>
          </p:grpSpPr>
          <p:pic>
            <p:nvPicPr>
              <p:cNvPr id="377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Text Box 6"/>
              <p:cNvSpPr/>
              <p:nvPr/>
            </p:nvSpPr>
            <p:spPr>
              <a:xfrm>
                <a:off x="2497680" y="3862440"/>
                <a:ext cx="988200" cy="9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7"/>
              <p:cNvSpPr/>
              <p:nvPr/>
            </p:nvSpPr>
            <p:spPr>
              <a:xfrm>
                <a:off x="5195880" y="4214880"/>
                <a:ext cx="130500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8"/>
              <p:cNvSpPr/>
              <p:nvPr/>
            </p:nvSpPr>
            <p:spPr>
              <a:xfrm>
                <a:off x="5366520" y="3670200"/>
                <a:ext cx="89964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ucag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Calibri"/>
                  </a:rPr>
                  <a:t>ó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(higad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9"/>
              <p:cNvSpPr/>
              <p:nvPr/>
            </p:nvSpPr>
            <p:spPr>
              <a:xfrm>
                <a:off x="5367960" y="4505400"/>
                <a:ext cx="1047600" cy="82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Adrenal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Ca</a:t>
                </a:r>
                <a:r>
                  <a:rPr b="1" i="1" lang="es-ES_tradnl" sz="1800" spc="-1" strike="noStrike" baseline="30000">
                    <a:solidFill>
                      <a:srgbClr val="ff0000"/>
                    </a:solidFill>
                    <a:latin typeface="Calibri"/>
                  </a:rPr>
                  <a:t>2+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, AM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(m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Calibri"/>
                  </a:rPr>
                  <a:t>ú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scul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0"/>
            <p:cNvGrpSpPr/>
            <p:nvPr/>
          </p:nvGrpSpPr>
          <p:grpSpPr>
            <a:xfrm>
              <a:off x="649440" y="3952800"/>
              <a:ext cx="1824480" cy="578520"/>
              <a:chOff x="649440" y="3952800"/>
              <a:chExt cx="1824480" cy="578520"/>
            </a:xfrm>
          </p:grpSpPr>
          <p:sp>
            <p:nvSpPr>
              <p:cNvPr id="383" name="Text Box 11"/>
              <p:cNvSpPr/>
              <p:nvPr/>
            </p:nvSpPr>
            <p:spPr>
              <a:xfrm>
                <a:off x="649440" y="4071600"/>
                <a:ext cx="117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Insuli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3"/>
              <p:cNvSpPr/>
              <p:nvPr/>
            </p:nvSpPr>
            <p:spPr>
              <a:xfrm>
                <a:off x="2067480" y="39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Calibri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Rectangle 14"/>
          <p:cNvSpPr/>
          <p:nvPr/>
        </p:nvSpPr>
        <p:spPr>
          <a:xfrm>
            <a:off x="5000760" y="3357720"/>
            <a:ext cx="164304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5000760" y="4500720"/>
            <a:ext cx="20001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714240" y="3929040"/>
            <a:ext cx="1656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17"/>
          <p:cNvSpPr/>
          <p:nvPr/>
        </p:nvSpPr>
        <p:spPr>
          <a:xfrm>
            <a:off x="4788000" y="3716280"/>
            <a:ext cx="144360" cy="1366920"/>
          </a:xfrm>
          <a:custGeom>
            <a:avLst/>
            <a:gdLst>
              <a:gd name="textAreaLeft" fmla="*/ 0 w 144360"/>
              <a:gd name="textAreaRight" fmla="*/ 144720 w 14436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fill="none" w="28407" h="43200">
                <a:moveTo>
                  <a:pt x="6806" y="0"/>
                </a:moveTo>
                <a:cubicBezTo>
                  <a:pt x="18736" y="0"/>
                  <a:pt x="28407" y="9670"/>
                  <a:pt x="28407" y="21600"/>
                </a:cubicBezTo>
                <a:cubicBezTo>
                  <a:pt x="28407" y="33529"/>
                  <a:pt x="18736" y="43200"/>
                  <a:pt x="6807" y="43200"/>
                </a:cubicBezTo>
                <a:cubicBezTo>
                  <a:pt x="4493" y="43200"/>
                  <a:pt x="2195" y="42828"/>
                  <a:pt x="-1" y="42099"/>
                </a:cubicBezTo>
              </a:path>
              <a:path stroke="0" w="28407" h="43200">
                <a:moveTo>
                  <a:pt x="6806" y="0"/>
                </a:moveTo>
                <a:cubicBezTo>
                  <a:pt x="18736" y="0"/>
                  <a:pt x="28407" y="9670"/>
                  <a:pt x="28407" y="21600"/>
                </a:cubicBezTo>
                <a:cubicBezTo>
                  <a:pt x="28407" y="33529"/>
                  <a:pt x="18736" y="43200"/>
                  <a:pt x="6807" y="43200"/>
                </a:cubicBezTo>
                <a:cubicBezTo>
                  <a:pt x="4493" y="43200"/>
                  <a:pt x="2195" y="42828"/>
                  <a:pt x="-1" y="42099"/>
                </a:cubicBezTo>
                <a:lnTo>
                  <a:pt x="6807" y="21600"/>
                </a:lnTo>
                <a:lnTo>
                  <a:pt x="6806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18"/>
          <p:cNvSpPr/>
          <p:nvPr/>
        </p:nvSpPr>
        <p:spPr>
          <a:xfrm flipH="1">
            <a:off x="3564000" y="3705120"/>
            <a:ext cx="109440" cy="1295640"/>
          </a:xfrm>
          <a:custGeom>
            <a:avLst/>
            <a:gdLst>
              <a:gd name="textAreaLeft" fmla="*/ 360 w 109440"/>
              <a:gd name="textAreaRight" fmla="*/ 110160 w 10944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fill="none" w="21600" h="398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034"/>
                  <a:pt x="17777" y="35945"/>
                  <a:pt x="11479" y="39896"/>
                </a:cubicBezTo>
              </a:path>
              <a:path stroke="0" w="21600" h="398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034"/>
                  <a:pt x="17777" y="35945"/>
                  <a:pt x="11479" y="398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8 CuadroTexto"/>
          <p:cNvSpPr/>
          <p:nvPr/>
        </p:nvSpPr>
        <p:spPr>
          <a:xfrm>
            <a:off x="3212280" y="2913120"/>
            <a:ext cx="2268720" cy="7333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Glucógeno Fosforilasa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(menos activ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20 Datos"/>
          <p:cNvSpPr/>
          <p:nvPr/>
        </p:nvSpPr>
        <p:spPr>
          <a:xfrm>
            <a:off x="3143160" y="5661000"/>
            <a:ext cx="2214720" cy="735120"/>
          </a:xfrm>
          <a:prstGeom prst="flowChartInputOutput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(act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457200" y="115920"/>
            <a:ext cx="8229600" cy="6699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ISI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COMO SE REGULA EN MUSCUL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uando el músculo necesita una rápida provisión de energía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arrera, estados estrés emocional, agresión fís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e activa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Glucógeno fosforilasa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y se libera glucosa-1-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20764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Cuando BAJAN los niveles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glucosa sanguín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agón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 del pá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activa l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denilato ciclas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n consecuencia la glucógenoli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obre   glucosa 1-fosfato actúa un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atas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 se libera glucosa libre en sang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LISIS </a:t>
            </a:r>
            <a:br>
              <a:rPr sz="28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¿Cuándo y cómo se regula en HIG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¿Qué sucede cuando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AUMENTA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los niveles de glucosa sanguíne</a:t>
            </a:r>
            <a:r>
              <a:rPr b="0" lang="es-MX" sz="2800" spc="-1" strike="noStrike" u="sng">
                <a:solidFill>
                  <a:srgbClr val="ff0000"/>
                </a:solidFill>
                <a:uFillTx/>
                <a:latin typeface="Comic Sans MS"/>
              </a:rPr>
              <a:t>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suli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estimula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hibe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2.bp.blogspot.com/-txLgSepAMzs/UvyYs_hgAKI/AAAAAAAAAMk/IW80dK59Qek/s1600/glucogeno+funciones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401" name="2 CuadroTexto"/>
          <p:cNvSpPr/>
          <p:nvPr/>
        </p:nvSpPr>
        <p:spPr>
          <a:xfrm>
            <a:off x="1960560" y="642960"/>
            <a:ext cx="62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FUNCIÓN DE LA GLUCÓGENO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2"/>
          <p:cNvSpPr/>
          <p:nvPr/>
        </p:nvSpPr>
        <p:spPr>
          <a:xfrm>
            <a:off x="3419640" y="3213000"/>
            <a:ext cx="366480" cy="397080"/>
          </a:xfrm>
          <a:custGeom>
            <a:avLst/>
            <a:gdLst>
              <a:gd name="textAreaLeft" fmla="*/ 0 w 366480"/>
              <a:gd name="textAreaRight" fmla="*/ 366840 w 3664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</a:path>
              <a:path stroke="0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  <a:lnTo>
                  <a:pt x="2298" y="21600"/>
                </a:lnTo>
                <a:lnTo>
                  <a:pt x="229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3"/>
          <p:cNvSpPr/>
          <p:nvPr/>
        </p:nvSpPr>
        <p:spPr>
          <a:xfrm>
            <a:off x="2489040" y="4272120"/>
            <a:ext cx="454320" cy="626760"/>
          </a:xfrm>
          <a:custGeom>
            <a:avLst/>
            <a:gdLst>
              <a:gd name="textAreaLeft" fmla="*/ 0 w 454320"/>
              <a:gd name="textAreaRight" fmla="*/ 454680 w 454320"/>
              <a:gd name="textAreaTop" fmla="*/ 0 h 626760"/>
              <a:gd name="textAreaBottom" fmla="*/ 627120 h 626760"/>
            </a:gdLst>
            <a:ahLst/>
            <a:rect l="textAreaLeft" t="textAreaTop" r="textAreaRight" b="textAreaBottom"/>
            <a:pathLst>
              <a:path fill="none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</a:path>
              <a:path stroke="0" w="23898" h="43200">
                <a:moveTo>
                  <a:pt x="2297" y="0"/>
                </a:moveTo>
                <a:cubicBezTo>
                  <a:pt x="14227" y="0"/>
                  <a:pt x="23898" y="9670"/>
                  <a:pt x="23898" y="21600"/>
                </a:cubicBezTo>
                <a:cubicBezTo>
                  <a:pt x="23898" y="33529"/>
                  <a:pt x="14227" y="43200"/>
                  <a:pt x="2298" y="43200"/>
                </a:cubicBezTo>
                <a:cubicBezTo>
                  <a:pt x="1530" y="43200"/>
                  <a:pt x="763" y="43159"/>
                  <a:pt x="-1" y="43077"/>
                </a:cubicBezTo>
                <a:lnTo>
                  <a:pt x="2298" y="21600"/>
                </a:lnTo>
                <a:lnTo>
                  <a:pt x="229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4"/>
          <p:cNvSpPr/>
          <p:nvPr/>
        </p:nvSpPr>
        <p:spPr>
          <a:xfrm flipV="1" rot="19738800">
            <a:off x="6548040" y="5227560"/>
            <a:ext cx="92160" cy="274680"/>
          </a:xfrm>
          <a:custGeom>
            <a:avLst/>
            <a:gdLst>
              <a:gd name="textAreaLeft" fmla="*/ 0 w 92160"/>
              <a:gd name="textAreaRight" fmla="*/ 92520 w 92160"/>
              <a:gd name="textAreaTop" fmla="*/ -360 h 274680"/>
              <a:gd name="textAreaBottom" fmla="*/ 274680 h 274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Glucógeno sintasa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25"/>
          <p:cNvSpPr/>
          <p:nvPr/>
        </p:nvSpPr>
        <p:spPr>
          <a:xfrm>
            <a:off x="6227640" y="3068640"/>
            <a:ext cx="444600" cy="533520"/>
          </a:xfrm>
          <a:custGeom>
            <a:avLst/>
            <a:gdLst>
              <a:gd name="textAreaLeft" fmla="*/ 0 w 444600"/>
              <a:gd name="textAreaRight" fmla="*/ 444960 w 444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80" h="336">
                <a:moveTo>
                  <a:pt x="40" y="336"/>
                </a:moveTo>
                <a:cubicBezTo>
                  <a:pt x="20" y="268"/>
                  <a:pt x="0" y="200"/>
                  <a:pt x="40" y="144"/>
                </a:cubicBezTo>
                <a:cubicBezTo>
                  <a:pt x="80" y="88"/>
                  <a:pt x="240" y="24"/>
                  <a:pt x="280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biosíntesis y degradación  de Glucógeno están coordinadamente regu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5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9" dur="2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4000680"/>
            <a:ext cx="27352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89000" y="2328840"/>
            <a:ext cx="316872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043600" y="2257560"/>
            <a:ext cx="36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5640" y="3929040"/>
            <a:ext cx="4608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490920" y="2349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3214800" y="4005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La síntesis y degradación de glucógeno están cuidadosamente reguladas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2 Rectángulo"/>
          <p:cNvSpPr/>
          <p:nvPr/>
        </p:nvSpPr>
        <p:spPr>
          <a:xfrm>
            <a:off x="1028880" y="71280"/>
            <a:ext cx="6472080" cy="67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 </a:t>
            </a:r>
            <a:r>
              <a:rPr b="1" i="1" lang="it-IT" sz="1600" spc="-1" strike="noStrike">
                <a:solidFill>
                  <a:srgbClr val="069432"/>
                </a:solidFill>
                <a:latin typeface="Calibri"/>
              </a:rPr>
              <a:t>(activa la síntesis de Glucóge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¿Qué pasa cuando BAJAN los niveles de glucosa sanguínea  -  Híga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libera  GLUCAGÓN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adenilato cicl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en consecuencia s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e estimula la actividad de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quin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it-IT" sz="1600" spc="-1" strike="noStrike">
                <a:solidFill>
                  <a:srgbClr val="1104bc"/>
                </a:solidFill>
                <a:latin typeface="Calibri"/>
              </a:rPr>
              <a:t>glucógeno fosforilasa </a:t>
            </a:r>
            <a:r>
              <a:rPr b="1" i="1" lang="it-IT" sz="1600" spc="-1" strike="noStrike">
                <a:solidFill>
                  <a:srgbClr val="069432"/>
                </a:solidFill>
                <a:latin typeface="Calibri"/>
              </a:rPr>
              <a:t>(activa la degradación de Glucóge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obre Glu-6-fosfato actúa un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fosfat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se libera glucosa libre en sangre.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Cómo se regula en múscul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Cuando el músculo necesita una rápida provisión de energía (carrera, estados estrés emocional, agresión fís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ADRENALINA (activación hormon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</a:t>
            </a:r>
            <a:r>
              <a:rPr b="1" i="1" lang="es-ES" sz="1600" spc="-1" strike="noStrike">
                <a:solidFill>
                  <a:srgbClr val="1104bc"/>
                </a:solidFill>
                <a:latin typeface="Calibri"/>
              </a:rPr>
              <a:t>glucógeno 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y se libera glucosa-1-fosf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Aumentan los niveles de AMP y se libera Ca</a:t>
            </a:r>
            <a:r>
              <a:rPr b="1" lang="es-AR" sz="16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durante la contracción muscular,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(activación alostér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4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4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4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4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500"/>
                                        <p:tgtEl>
                                          <p:spTgt spid="4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6"/>
          <p:cNvSpPr/>
          <p:nvPr/>
        </p:nvSpPr>
        <p:spPr>
          <a:xfrm>
            <a:off x="428760" y="3000240"/>
            <a:ext cx="29923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Calibri"/>
              </a:rPr>
              <a:t>Cuando se ingieren carbohidratos con la dieta y los niveles de glucemia aum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de l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glucógeno fosforilasa-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</a:t>
            </a:r>
            <a:r>
              <a:rPr b="1" lang="es-ES" sz="2400" spc="-1" strike="noStrike">
                <a:solidFill>
                  <a:srgbClr val="1104bc"/>
                </a:solidFill>
                <a:latin typeface="Arial Rounded MT Bold"/>
              </a:rPr>
              <a:t>GLUCOGENO HEPATICO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144360" y="428760"/>
            <a:ext cx="7917120" cy="6429240"/>
          </a:xfrm>
          <a:prstGeom prst="rect">
            <a:avLst/>
          </a:prstGeom>
          <a:ln w="0">
            <a:noFill/>
          </a:ln>
        </p:spPr>
      </p:pic>
      <p:sp>
        <p:nvSpPr>
          <p:cNvPr id="435" name="2 CuadroTexto"/>
          <p:cNvSpPr/>
          <p:nvPr/>
        </p:nvSpPr>
        <p:spPr>
          <a:xfrm>
            <a:off x="357120" y="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omic Sans MS"/>
              </a:rPr>
              <a:t>METABOLISMO DEL GLUCÓGENO - Guía TP –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e acuerdo al siguiente gráfico analice cómo ocurren los cambios en el </a:t>
            </a:r>
            <a:r>
              <a:rPr b="1" lang="es-AR" sz="1800" spc="-1" strike="noStrike">
                <a:solidFill>
                  <a:srgbClr val="069432"/>
                </a:solidFill>
                <a:latin typeface="Arial"/>
              </a:rPr>
              <a:t>depósito de glucógeno y los niveles de glucosa </a:t>
            </a: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urante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Indique en qué momento estarían act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las hormonas insulina y glucag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 CuadroTexto"/>
          <p:cNvSpPr/>
          <p:nvPr/>
        </p:nvSpPr>
        <p:spPr>
          <a:xfrm>
            <a:off x="2357280" y="37861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 Black"/>
              </a:rPr>
              <a:t>GLUCAG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5 Flecha abajo"/>
          <p:cNvSpPr/>
          <p:nvPr/>
        </p:nvSpPr>
        <p:spPr>
          <a:xfrm flipV="1">
            <a:off x="271476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6 Flecha abajo"/>
          <p:cNvSpPr/>
          <p:nvPr/>
        </p:nvSpPr>
        <p:spPr>
          <a:xfrm flipV="1">
            <a:off x="485784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7 Flecha abajo"/>
          <p:cNvSpPr/>
          <p:nvPr/>
        </p:nvSpPr>
        <p:spPr>
          <a:xfrm>
            <a:off x="3786120" y="1928880"/>
            <a:ext cx="14292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8 Flecha abajo"/>
          <p:cNvSpPr/>
          <p:nvPr/>
        </p:nvSpPr>
        <p:spPr>
          <a:xfrm>
            <a:off x="221472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9 Flecha abajo"/>
          <p:cNvSpPr/>
          <p:nvPr/>
        </p:nvSpPr>
        <p:spPr>
          <a:xfrm>
            <a:off x="5929200" y="2428920"/>
            <a:ext cx="1429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10 CuadroTexto"/>
          <p:cNvSpPr/>
          <p:nvPr/>
        </p:nvSpPr>
        <p:spPr>
          <a:xfrm>
            <a:off x="1755000" y="200016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69432"/>
                </a:solidFill>
                <a:latin typeface="Arial Black"/>
              </a:rPr>
              <a:t>INSU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1 CuadroTexto"/>
          <p:cNvSpPr/>
          <p:nvPr/>
        </p:nvSpPr>
        <p:spPr>
          <a:xfrm>
            <a:off x="2377800" y="1571760"/>
            <a:ext cx="325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000"/>
                </a:solidFill>
                <a:latin typeface="Arial"/>
              </a:rPr>
              <a:t>HIPER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45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6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48" name="13 Conector recto de flecha"/>
          <p:cNvCxnSpPr>
            <a:stCxn id="446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49" name="14 Rectángulo"/>
          <p:cNvSpPr/>
          <p:nvPr/>
        </p:nvSpPr>
        <p:spPr>
          <a:xfrm>
            <a:off x="250704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5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21 CuadroTexto"/>
          <p:cNvSpPr/>
          <p:nvPr/>
        </p:nvSpPr>
        <p:spPr>
          <a:xfrm>
            <a:off x="4797000" y="414972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22 Elipse"/>
          <p:cNvSpPr/>
          <p:nvPr/>
        </p:nvSpPr>
        <p:spPr>
          <a:xfrm flipH="1" flipV="1">
            <a:off x="4714200" y="3214080"/>
            <a:ext cx="500040" cy="571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3 Rectángulo"/>
          <p:cNvSpPr/>
          <p:nvPr/>
        </p:nvSpPr>
        <p:spPr>
          <a:xfrm>
            <a:off x="473076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4 CuadroTexto"/>
          <p:cNvSpPr/>
          <p:nvPr/>
        </p:nvSpPr>
        <p:spPr>
          <a:xfrm>
            <a:off x="1085400" y="414972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(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26 Conector recto de flecha"/>
          <p:cNvCxnSpPr/>
          <p:nvPr/>
        </p:nvCxnSpPr>
        <p:spPr>
          <a:xfrm flipH="1">
            <a:off x="3284280" y="571464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9" name="27 Conector recto de flecha"/>
          <p:cNvCxnSpPr/>
          <p:nvPr/>
        </p:nvCxnSpPr>
        <p:spPr>
          <a:xfrm>
            <a:off x="3069000" y="571464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0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49 Rectángulo"/>
          <p:cNvSpPr/>
          <p:nvPr/>
        </p:nvSpPr>
        <p:spPr>
          <a:xfrm>
            <a:off x="650520" y="28584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!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1 CuadroTexto"/>
          <p:cNvSpPr/>
          <p:nvPr/>
        </p:nvSpPr>
        <p:spPr>
          <a:xfrm>
            <a:off x="2376360" y="1571760"/>
            <a:ext cx="30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b050"/>
                </a:solidFill>
                <a:latin typeface="Arial"/>
              </a:rPr>
              <a:t>HIPO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4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5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67" name="13 Conector recto de flecha"/>
          <p:cNvCxnSpPr>
            <a:stCxn id="465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68" name="14 Rectángulo"/>
          <p:cNvSpPr/>
          <p:nvPr/>
        </p:nvSpPr>
        <p:spPr>
          <a:xfrm>
            <a:off x="465012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15 Elipse"/>
          <p:cNvSpPr/>
          <p:nvPr/>
        </p:nvSpPr>
        <p:spPr>
          <a:xfrm flipH="1" flipV="1">
            <a:off x="4643280" y="3143160"/>
            <a:ext cx="50040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21 CuadroTexto"/>
          <p:cNvSpPr/>
          <p:nvPr/>
        </p:nvSpPr>
        <p:spPr>
          <a:xfrm>
            <a:off x="4797000" y="422100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22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23 Rectángulo"/>
          <p:cNvSpPr/>
          <p:nvPr/>
        </p:nvSpPr>
        <p:spPr>
          <a:xfrm>
            <a:off x="250344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24 CuadroTexto"/>
          <p:cNvSpPr/>
          <p:nvPr/>
        </p:nvSpPr>
        <p:spPr>
          <a:xfrm>
            <a:off x="1085400" y="422280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(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26 Conector recto de flecha"/>
          <p:cNvCxnSpPr/>
          <p:nvPr/>
        </p:nvCxnSpPr>
        <p:spPr>
          <a:xfrm flipV="1">
            <a:off x="3285000" y="5571360"/>
            <a:ext cx="108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8" name="27 Conector recto de flecha"/>
          <p:cNvCxnSpPr/>
          <p:nvPr/>
        </p:nvCxnSpPr>
        <p:spPr>
          <a:xfrm flipV="1">
            <a:off x="3069000" y="557316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9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s://encrypted-tbn3.gstatic.com/images?q=tbn:ANd9GcTrTz2bIBFXIfTAkwZVnMNIPyjEZHvHERFyJvGq4soQdilEIg2FTA"/>
          <p:cNvPicPr/>
          <p:nvPr/>
        </p:nvPicPr>
        <p:blipFill>
          <a:blip r:embed="rId1"/>
          <a:stretch/>
        </p:blipFill>
        <p:spPr>
          <a:xfrm>
            <a:off x="357120" y="81000"/>
            <a:ext cx="3319560" cy="263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s://encrypted-tbn3.gstatic.com/images?q=tbn:ANd9GcSybDm7V9gslrWY12DO4duE1hJT-9TzKvztyLnHGuBby8gXVgNjkg"/>
          <p:cNvPicPr/>
          <p:nvPr/>
        </p:nvPicPr>
        <p:blipFill>
          <a:blip r:embed="rId2"/>
          <a:stretch/>
        </p:blipFill>
        <p:spPr>
          <a:xfrm>
            <a:off x="571680" y="3071880"/>
            <a:ext cx="2388960" cy="2357280"/>
          </a:xfrm>
          <a:prstGeom prst="rect">
            <a:avLst/>
          </a:prstGeom>
          <a:ln w="0">
            <a:noFill/>
          </a:ln>
        </p:spPr>
      </p:pic>
      <p:sp>
        <p:nvSpPr>
          <p:cNvPr id="126" name="3 Rectángulo"/>
          <p:cNvSpPr/>
          <p:nvPr/>
        </p:nvSpPr>
        <p:spPr>
          <a:xfrm>
            <a:off x="428760" y="5643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mificación de la molé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Glucógeno: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97520" y="2440080"/>
            <a:ext cx="1726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6 Conector recto de flecha"/>
          <p:cNvCxnSpPr/>
          <p:nvPr/>
        </p:nvCxnSpPr>
        <p:spPr>
          <a:xfrm flipH="1">
            <a:off x="3357000" y="714240"/>
            <a:ext cx="857880" cy="57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9 Conector recto de flecha"/>
          <p:cNvCxnSpPr/>
          <p:nvPr/>
        </p:nvCxnSpPr>
        <p:spPr>
          <a:xfrm flipH="1">
            <a:off x="3142440" y="642960"/>
            <a:ext cx="11437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12 CuadroTexto"/>
          <p:cNvSpPr/>
          <p:nvPr/>
        </p:nvSpPr>
        <p:spPr>
          <a:xfrm>
            <a:off x="4234680" y="56844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ánul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cógeno (hepatoc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71840" y="0"/>
            <a:ext cx="3823200" cy="52056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15 Conector recto de flecha"/>
          <p:cNvCxnSpPr/>
          <p:nvPr/>
        </p:nvCxnSpPr>
        <p:spPr>
          <a:xfrm flipH="1" flipV="1">
            <a:off x="2428200" y="1499400"/>
            <a:ext cx="21492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18 CuadroTexto"/>
          <p:cNvSpPr/>
          <p:nvPr/>
        </p:nvSpPr>
        <p:spPr>
          <a:xfrm>
            <a:off x="2503800" y="25002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9 CuadroTexto"/>
          <p:cNvSpPr/>
          <p:nvPr/>
        </p:nvSpPr>
        <p:spPr>
          <a:xfrm>
            <a:off x="385776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tá presente en citosol formando grán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un polímero de la glucosa de alto peso molecular, soluble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muy ramificado: cada 8-12 unidades de Glucosa presenta una unión </a:t>
            </a:r>
            <a:r>
              <a:rPr b="1" lang="es-ES_tradnl" sz="1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 1-6 o punto de ram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0 CuadroTexto"/>
          <p:cNvSpPr/>
          <p:nvPr/>
        </p:nvSpPr>
        <p:spPr>
          <a:xfrm>
            <a:off x="5085360" y="378612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¿Es ventajoso tener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tructura ramifi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3857760" y="457200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Presenta gran número de glucosa terminales ó extremos (no reduc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Los extremos son de fácil acceso a enzimas de la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Esto posibilita una degradación rá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omic Sans MS"/>
              </a:rPr>
              <a:t>También aumenta la velocidad de 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CuadroTexto"/>
          <p:cNvSpPr/>
          <p:nvPr/>
        </p:nvSpPr>
        <p:spPr>
          <a:xfrm>
            <a:off x="7525080" y="5493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133d6"/>
                </a:solidFill>
                <a:latin typeface="Comic Sans MS"/>
              </a:rPr>
              <a:t>Repasemo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142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15 Conector recto de flecha"/>
          <p:cNvCxnSpPr>
            <a:stCxn id="148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1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2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000080" y="214200"/>
          <a:ext cx="7143840" cy="654840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281160">
                <a:tc gridSpan="3"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ONES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DEL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gene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 el exceso de Glucosa de la di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bre las necesidades de Glucosa a corto plazo (hipoglucemia, hipox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1104bc"/>
                          </a:solidFill>
                          <a:latin typeface="Calibri"/>
                          <a:ea typeface="Calibri"/>
                        </a:rPr>
                        <a:t>GLUCÓGENO HEP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GLUCÓGENO MUS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tiene la concentración de Glucosa en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tras las comidas y en las primeras fases del ayu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Combustible de reserva para la contracción muscular </a:t>
                      </a: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Otras fun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lmacena Glu en períodos de excesos (después de las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Hígado: Posee la enzim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Libera Glu a la sangre (intervalos entre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segura la provisión de Glu en todos los tej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úsculo: Carece de la fosfatas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No puede liberar Glu a la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Se degrada para obtener energía en 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amaño de los depós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0% peso húmedo del hí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duran sólo 12-24 hs durante el ayuno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-2% peso húmedo d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4 CuadroTexto"/>
          <p:cNvSpPr/>
          <p:nvPr/>
        </p:nvSpPr>
        <p:spPr>
          <a:xfrm>
            <a:off x="785880" y="1357200"/>
            <a:ext cx="7500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CuadroTexto"/>
          <p:cNvSpPr/>
          <p:nvPr/>
        </p:nvSpPr>
        <p:spPr>
          <a:xfrm>
            <a:off x="714240" y="3057480"/>
            <a:ext cx="77868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CuadroTexto"/>
          <p:cNvSpPr/>
          <p:nvPr/>
        </p:nvSpPr>
        <p:spPr>
          <a:xfrm>
            <a:off x="500040" y="5586480"/>
            <a:ext cx="7929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214280" y="4429080"/>
            <a:ext cx="6705720" cy="13816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4280" y="1500120"/>
            <a:ext cx="6913800" cy="26845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incipalmente en las células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L GLUCOGEN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501040" cy="357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requi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tro Enzi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TP (uridina trifosfato) como activador 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lécula de Glucógeno preexistente 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 “cebador” (proteína) para iniciar la síntesis si no hay una molécula  de Glucógeno pre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TP como dador de 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biosí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glucógeno está coordinada recíprocamente con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Soporte</cp:lastModifiedBy>
  <dcterms:modified xsi:type="dcterms:W3CDTF">2017-09-13T17:02:33Z</dcterms:modified>
  <cp:revision>286</cp:revision>
  <dc:subject/>
  <dc:title>Diapositiva 1</dc:title>
</cp:coreProperties>
</file>